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commentAuthors.xml><?xml version="1.0" encoding="utf-8"?>
<p:cmAuthorLst xmlns:p="http://schemas.openxmlformats.org/presentationml/2006/main">
  <p:cmAuthor id="0" name="Chavon Niles" initials="C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7.xml><?xml version="1.0" encoding="utf-8"?>
<p:cmLst xmlns:p="http://schemas.openxmlformats.org/presentationml/2006/main">
  <p:cm authorId="0" dt="2014-11-10T11:15:41.434000000" idx="1">
    <p:pos x="2670" y="490"/>
    <p:text>Here are you speaking about equity- the idea of treating people differently so they can have access to goods and services- in order to be equal we must be equitabl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move the slide</a:t>
            </a:r>
            <a:endParaRPr b="1" lang="en-US" sz="3900" spc="-1" strike="noStrike">
              <a:solidFill>
                <a:srgbClr val="330066"/>
              </a:solidFill>
              <a:latin typeface="Calibri"/>
            </a:endParaRPr>
          </a:p>
        </p:txBody>
      </p:sp>
      <p:sp>
        <p:nvSpPr>
          <p:cNvPr id="15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A735-40B2-4353-913E-62F44C62937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hrlsc.on.ca/" TargetMode="External"/><Relationship Id="rId2" Type="http://schemas.openxmlformats.org/officeDocument/2006/relationships/hyperlink" Target="http://www.ohrc.on.ca/en"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3B0C-E35A-4C4C-AA8D-030C552CDABB}"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911B-3963-4E2D-8E59-93E1B559C72B}"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Human Rights Tribunal of Ontario deals with all claims of discrimination filed under the Ontario </a:t>
            </a:r>
            <a:r>
              <a:rPr b="0" i="1" lang="en-CA" sz="1000" spc="-1" strike="noStrike">
                <a:solidFill>
                  <a:srgbClr val="000000"/>
                </a:solidFill>
                <a:latin typeface="Times New Roman"/>
              </a:rPr>
              <a:t>Human Rights Code</a:t>
            </a:r>
            <a:r>
              <a:rPr b="0" lang="en-CA" sz="1000" spc="-1" strike="noStrike">
                <a:solidFill>
                  <a:srgbClr val="000000"/>
                </a:solidFill>
                <a:latin typeface="Times New Roman"/>
              </a:rPr>
              <a:t>. The Tribunal resolves applications through mediation or adjudication. The Tribunal's goal is to resolve claims in a fair, open and timely man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act the Tribunal if you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status of your cas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n application guid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ies of any Tribunal form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Tribunal's procedu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Human Rights Legal Support Centre offers human rights application-related legal support services to individuals who believe they have experienced discrimin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1"/>
              </a:rPr>
              <a:t>Contact the Centre</a:t>
            </a:r>
            <a:r>
              <a:rPr b="0" lang="en-CA" sz="1000" spc="-1" strike="noStrike">
                <a:solidFill>
                  <a:srgbClr val="000000"/>
                </a:solidFill>
                <a:latin typeface="Times New Roman"/>
              </a:rPr>
              <a:t> if you think you have been discriminated against and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dvice about next step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elp with the application proc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Ontario Human Rights Commission works to promote, protect and advance human rights. Its main focus is to address the root causes of discrimination. Through outreach, cooperation and partnership the Commission aims to advance Ontario's human rights cul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2"/>
              </a:rPr>
              <a:t>Contact the Commission</a:t>
            </a:r>
            <a:r>
              <a:rPr b="0" lang="en-CA" sz="1000" spc="-1" strike="noStrike">
                <a:solidFill>
                  <a:srgbClr val="000000"/>
                </a:solidFill>
                <a:latin typeface="Times New Roman"/>
              </a:rPr>
              <a:t> if you want to learn more abou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education and outreac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issues in Ontari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status of a complaint filed before June 30, 2008.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545E-F818-4468-9555-1603AC652B3B}"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a:t>
            </a:r>
            <a:br>
              <a:rPr sz="1200"/>
            </a:br>
            <a:r>
              <a:rPr b="0" lang="en-CA" sz="1200" spc="-1" strike="noStrike">
                <a:solidFill>
                  <a:srgbClr val="000000"/>
                </a:solidFill>
                <a:latin typeface="Times New Roman"/>
              </a:rPr>
              <a:t>What are your criteria for providing servic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We are developing criteria that would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SUPPORTING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Human Rights Legal Support Centre can provide legal services to an applicant, the factors set out below will weigh in support of eligibility for services. Each factor below will be considered in conjunction with all other factors both supporting and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falls within the jurisdiction of the Tribuna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a ground of discrimination recognized by the Ontario </a:t>
            </a:r>
            <a:r>
              <a:rPr b="0" i="1" lang="en-US" sz="1200" spc="-1" strike="noStrike">
                <a:solidFill>
                  <a:srgbClr val="000000"/>
                </a:solidFill>
                <a:latin typeface="Times New Roman"/>
              </a:rPr>
              <a:t>Human Rights Code</a:t>
            </a:r>
            <a:r>
              <a:rPr b="0" lang="en-US" sz="1200" spc="-1" strike="noStrike">
                <a:solidFill>
                  <a:srgbClr val="000000"/>
                </a:solidFill>
                <a:latin typeface="Times New Roman"/>
              </a:rPr>
              <a:t> and/or by applicable human rights jurisprudenc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ppears to be evidence to suppor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e nature of the proposed application and the remedies sought, the applicant would face challenges in representing him/herself before the Tribunal.  The challenges may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fluency in English/French</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literacy level</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a disability  (including the need for accommodation of </a:t>
            </a:r>
            <a:r>
              <a:rPr b="0" i="1" lang="en-US" sz="1200" spc="-1" strike="noStrike">
                <a:solidFill>
                  <a:srgbClr val="000000"/>
                </a:solidFill>
                <a:latin typeface="Times New Roman"/>
              </a:rPr>
              <a:t>Code</a:t>
            </a:r>
            <a:r>
              <a:rPr b="0" lang="en-US" sz="1200" spc="-1" strike="noStrike">
                <a:solidFill>
                  <a:srgbClr val="000000"/>
                </a:solidFill>
                <a:latin typeface="Times New Roman"/>
              </a:rPr>
              <a:t>-related needs by the Cent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poverty (such as access to telephone, affordable transportati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amiliarity with legal process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ence of other supports in daily living</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created by recent arrival in Canada, refugee status and related issu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ization associated with membership in a designated group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e.g. youth; senior; member of a racialized commun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lacks other legal support in preparing their application or does not have reasonable access to legal support through a prepaid legal services plan, private resources, etc.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issues that could have a broad positive or negative impact on other disadvantaged groups designated under the </a:t>
            </a:r>
            <a:r>
              <a:rPr b="0" i="1" lang="en-US" sz="1200" spc="-1" strike="noStrike">
                <a:solidFill>
                  <a:srgbClr val="000000"/>
                </a:solidFill>
                <a:latin typeface="Times New Roman"/>
              </a:rPr>
              <a:t>Code, </a:t>
            </a:r>
            <a:r>
              <a:rPr b="0" lang="en-US" sz="1200" spc="-1" strike="noStrike">
                <a:solidFill>
                  <a:srgbClr val="000000"/>
                </a:solidFill>
                <a:latin typeface="Times New Roman"/>
              </a:rPr>
              <a:t>including other applicants or potential applicants for the Centre’s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a member of a historically disadvantaged group or a marginalized group.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complex legal or factual issues that require  legal represent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well-resourced and is expected to be represented by a counse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Legal Centre will provide legal services to individuals seeking to file an application to the Tribunal, the factors set out below will weigh against eligibility for the Centre’s legal services.  Each factor below will be considered in conjunction with other factors both supporting and weighing against eligibility.</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appears to be outside the jurisdiction of the Human Rights Tribunal of Ontario.</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raise a ground of discrimination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as interpreted by human rights jurisprudenc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appear to be supported by evidenc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sidering the nature of the proposed application and the circumstances affecting the person applying for service, and the nature of the remedies sought, it appears that the person is able to self-represent in the Tribunal’s process.</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has other legal support in preparing their application or has reasonable access to legal support through a prepaid legal services plan, private resources, etc.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is one which:</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require particularly significant staff resources;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expected to impact on the Centre’s ability to represent other applicants;  and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aise issues that could have a broad positive or negative impact on other disadvantaged groups designated under the </a:t>
            </a:r>
            <a:r>
              <a:rPr b="0" i="1" lang="en-US" sz="1200" spc="-1" strike="noStrike">
                <a:solidFill>
                  <a:srgbClr val="000000"/>
                </a:solidFill>
                <a:latin typeface="Times New Roman"/>
              </a:rPr>
              <a:t>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not a member of a marginalized or historically disadvantaged group.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not represented by a legal representativ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outside the one-year period for filing and there does not appear to be a significant public interest aspect to the claim.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that may weigh for or against the Centre providing legal services inclu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ssion has indicated that it would apply to intervene in support of the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organizations or individuals that have indicated an interest in intervening for or agains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uman Rights Co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entre established</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1  </a:t>
            </a:r>
            <a:r>
              <a:rPr b="0" lang="en-CA" sz="1200" spc="-1" strike="noStrike">
                <a:solidFill>
                  <a:srgbClr val="000000"/>
                </a:solidFill>
                <a:latin typeface="Times New Roman"/>
              </a:rPr>
              <a:t>(1)  A corporation without share capital is established under the name Human Rights Legal Support Centre in English and Centre d’assistance juridique en matière de droits de la personne in French.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Membership</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members of the Centre shall consist of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Not a Crown agenc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The Centre is not an agent of Her Majesty nor a Crown agent for the purposes of the </a:t>
            </a:r>
            <a:r>
              <a:rPr b="0" i="1" lang="en-CA" sz="1200" spc="-1" strike="noStrike">
                <a:solidFill>
                  <a:srgbClr val="000000"/>
                </a:solidFill>
                <a:latin typeface="Times New Roman"/>
              </a:rPr>
              <a:t>Crown Agency Act</a:t>
            </a:r>
            <a:r>
              <a:rPr b="0" lang="en-CA" sz="1200" spc="-1" strike="noStrike">
                <a:solidFill>
                  <a:srgbClr val="000000"/>
                </a:solidFill>
                <a:latin typeface="Times New Roman"/>
              </a:rPr>
              <a: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owers of natural pers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The Centre has the capacity and the rights, powers and privileges of a natural person, subject to the limitations set out in this Act or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ndependent from but accountable to Ontario</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Centre shall be independent from, but accountable to, the Government of Ontario as set out in this Ac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Object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2</a:t>
            </a:r>
            <a:r>
              <a:rPr b="0" lang="en-CA" sz="1200" spc="-1" strike="noStrike">
                <a:solidFill>
                  <a:srgbClr val="000000"/>
                </a:solidFill>
                <a:latin typeface="Times New Roman"/>
              </a:rPr>
              <a:t>  The objects of the Centre a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to establish and administer a cost-effective and efficient system for providing support services, including legal services, respecting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 to establish policies and priorities for the provision of support services based on its financial resource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ovision of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3</a:t>
            </a:r>
            <a:r>
              <a:rPr b="0" lang="en-CA" sz="1200" spc="-1" strike="noStrike">
                <a:solidFill>
                  <a:srgbClr val="000000"/>
                </a:solidFill>
                <a:latin typeface="Times New Roman"/>
              </a:rPr>
              <a:t>  (1)  The Centre shall provide the following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Advice and assistance, legal and otherwise, respecting the infringement of rights under Part I.</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Legal services in relation to,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 the making of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 proceedings before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i. applications for judicial review arising from Tribunal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v. stated case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 the enforcement of Tribunal orde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Such other services as may be prescribed by regulation.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vailability of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Centre shall ensure that the support services are available throughout the Province, using such methods of delivering the services as the Centre believes are appropriate.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Board of directo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4</a:t>
            </a:r>
            <a:r>
              <a:rPr b="0" lang="en-CA" sz="1200" spc="-1" strike="noStrike">
                <a:solidFill>
                  <a:srgbClr val="000000"/>
                </a:solidFill>
                <a:latin typeface="Times New Roman"/>
              </a:rPr>
              <a:t>  (1)  The affairs of the Centre shall be governed and managed by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omposition and appointment</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board of directors of the Centre shall consist of no fewer than five and no more than nine members appointed by the Lieutenant Governor in Council in accordance with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78F4-B5D4-4023-A756-DE7D412E3AE3}"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Functions of Commi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29.</a:t>
            </a:r>
            <a:r>
              <a:rPr b="0" lang="en-CA" sz="800" spc="-1" strike="noStrike">
                <a:solidFill>
                  <a:srgbClr val="000000"/>
                </a:solidFill>
                <a:latin typeface="Times New Roman"/>
              </a:rPr>
              <a:t>  The functions of the Commission are to promote and advance respect for human rights in Ontario, to protect human rights in Ontario and, recognizing that it is in the public interest to do so and that it is the Commission’s duty to protect the public interest, to identify and promote the elimination of discriminatory practices and, more specif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 to forward the policy that the dignity and worth of every person be recognized and that equal rights and opportunities be provided without discrimination that is contrary to la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 to develop and conduct programs of public information and education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promote awareness and understanding of, respect for and compliance with this Act,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i) prevent and eliminate discriminatory practices that infringe rights under Part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 to undertake, direct and encourage research into discriminatory practices and to make recommendations designed to prevent and eliminate such discriminatory practi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 to examine and review any statute or regulation, and any program or policy made by or under a statute, and make recommendations on any provision, program or policy that in its opinion is inconsistent with the intent of this 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e) to initiate reviews and inquiries into incidents of tension or conflict, or conditions that lead or may lead to incidents of tension or conflict, in a community, institution, industry or sector of the economy, and to make recommendations, and encourage and co-ordinate plans, programs and activities, to reduce or prevent such incidents or sources of tension or confli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f) to promote, assist and encourage public, municipal or private agencies, organizations, groups or persons to engage in programs to alleviate tensions and conflicts based upon identification by a prohibited ground of discrimin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 to designate programs as special programs in accordance with section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 to approve policies under section 3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to make applications to the Tribunal under section 3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 to report to the people of Ontario on the state of human rights in Ontario and on its affai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 to perform the functions assigned to the Commission under this or any other Act.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Commission poli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0.</a:t>
            </a:r>
            <a:r>
              <a:rPr b="0" lang="en-CA" sz="800" spc="-1" strike="noStrike">
                <a:solidFill>
                  <a:srgbClr val="000000"/>
                </a:solidFill>
                <a:latin typeface="Times New Roman"/>
              </a:rPr>
              <a:t>  The Commission may approve policies prepared and published by the Commission to provide guidance in the application of Parts I and II.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Inquir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1.</a:t>
            </a:r>
            <a:r>
              <a:rPr b="0" lang="en-CA" sz="800" spc="-1" strike="noStrike">
                <a:solidFill>
                  <a:srgbClr val="000000"/>
                </a:solidFill>
                <a:latin typeface="Times New Roman"/>
              </a:rPr>
              <a:t>  (1)  The Commission may conduct an inquiry under this section for the purpose of carrying out its functions under this Act if the Commission believes it is in the public interest to do so. 2006, c. 30, s. 4.</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2DC5-D83A-426E-AB8A-13AE88076406}"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D9EC-ABFF-41C5-94F5-CF264404C061}"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218C7-7205-4A4F-98CB-880490FC6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82109-4748-47C6-99F4-B5187973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63520-D9C3-4A1F-AB60-6FD619E21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02AD6-345E-4131-9B03-F9BF578E4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C1D56-4B01-435D-8104-D89A2F568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59F2F-0973-4C16-98FC-63C943600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E2C3C-2AB2-4F8B-BACE-0CF9647BD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B11C5-8236-4FBD-A94B-3D5327EF9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6B653-5BBE-41FA-81A8-BE012095B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6BB9D-991C-428A-AF9E-55E620FE4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A0778-87A9-4BAD-ADC7-12D8A780E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6CE9-BC16-4327-8634-42D5C5CA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39DFB-C19B-4F55-9A0E-67D03267D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C8B36-2C77-4416-973E-15A4D9C5C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43DDE-A8D6-4AD4-BAEF-5679B22FF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12DEE-77E9-4999-8A6F-386D35CD6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980F4-32FD-4F11-A1CD-2BA323442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E03CC-D8C5-448E-8ED5-F45889866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83599-C0E7-4FA4-A2E4-D6EB22740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3AB1D-77CB-4F0B-A4CD-3336C497C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3EF52-E979-4D11-A053-AC4B22443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87C4-10DD-408C-BCF0-3572D9496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8C90-B417-4E04-A177-AF0D560BC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DC5B-E466-4C6B-838C-F4267A568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EA57-0DA6-4A0B-93D1-C59544AB6D76}" type="datetime">
              <a:rPr b="0" lang="en-CA" sz="1000" spc="-1" strike="noStrike">
                <a:solidFill>
                  <a:srgbClr val="000000"/>
                </a:solidFill>
                <a:latin typeface="Times New Roman"/>
              </a:rPr>
              <a:t>26-07-29</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D3FE-86F1-4D5D-9931-2A99E5D25B2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37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37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37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D21F-65EB-4DB3-AD04-95EE68C276C9}" type="datetime">
              <a:rPr b="0" lang="en-CA" sz="1000" spc="-1" strike="noStrike">
                <a:solidFill>
                  <a:srgbClr val="000000"/>
                </a:solidFill>
                <a:latin typeface="Times New Roman"/>
              </a:rPr>
              <a:t>26-07-29</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E348-C74B-4CDF-91DA-E3C26064E0D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DC86-455D-4BCB-989B-BD2320E11704}"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EA98-422F-4C99-B910-D3C1355E678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330066"/>
                </a:solidFill>
                <a:latin typeface="Calibri"/>
              </a:rPr>
              <a:t>Human Rights Legal Support Centre</a:t>
            </a:r>
            <a:endParaRPr b="1" lang="en-US" sz="4800" spc="-1" strike="noStrike">
              <a:solidFill>
                <a:srgbClr val="330066"/>
              </a:solidFill>
              <a:latin typeface="Calibri"/>
            </a:endParaRPr>
          </a:p>
        </p:txBody>
      </p:sp>
      <p:sp>
        <p:nvSpPr>
          <p:cNvPr id="160" name="PlaceHolder 2"/>
          <p:cNvSpPr>
            <a:spLocks noGrp="1"/>
          </p:cNvSpPr>
          <p:nvPr>
            <p:ph type="subTitle"/>
          </p:nvPr>
        </p:nvSpPr>
        <p:spPr>
          <a:xfrm>
            <a:off x="1186920" y="3499920"/>
            <a:ext cx="6008760" cy="1559160"/>
          </a:xfrm>
          <a:prstGeom prst="rect">
            <a:avLst/>
          </a:prstGeom>
          <a:noFill/>
          <a:ln w="0">
            <a:noFill/>
          </a:ln>
        </p:spPr>
        <p:txBody>
          <a:bodyPr anchor="t">
            <a:noAutofit/>
          </a:bodyPr>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vember 11, 2014</a:t>
            </a:r>
            <a:endParaRPr b="0" lang="en-US" sz="2400" spc="-1" strike="noStrike">
              <a:solidFill>
                <a:srgbClr val="000000"/>
              </a:solidFill>
              <a:latin typeface="Calibri"/>
            </a:endParaRPr>
          </a:p>
          <a:p>
            <a:pPr indent="0">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 calcmode="lin" valueType="num">
                                      <p:cBhvr additive="base">
                                        <p:cTn id="7" dur="500" fill="hold">
                                          <p:stCondLst>
                                            <p:cond delay="0"/>
                                          </p:stCondLst>
                                        </p:cTn>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BE43-15A1-4D6B-85E3-C2BE489F6695}"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5C15-1A4B-487A-A2CA-B2AD6CFD3C0D}"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Defining undue hardship</a:t>
            </a:r>
            <a:endParaRPr b="1" lang="en-US" sz="3900" spc="-1" strike="noStrike">
              <a:solidFill>
                <a:srgbClr val="330066"/>
              </a:solidFill>
              <a:latin typeface="Calibri"/>
            </a:endParaRPr>
          </a:p>
        </p:txBody>
      </p:sp>
      <p:sp>
        <p:nvSpPr>
          <p:cNvPr id="206" name="PlaceHolder 2"/>
          <p:cNvSpPr>
            <a:spLocks noGrp="1"/>
          </p:cNvSpPr>
          <p:nvPr>
            <p:ph/>
          </p:nvPr>
        </p:nvSpPr>
        <p:spPr>
          <a:xfrm>
            <a:off x="431280" y="1449360"/>
            <a:ext cx="8388360" cy="529272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ponsibility of housing provider, employer, etc. to demonstrate </a:t>
            </a:r>
            <a:r>
              <a:rPr b="0" lang="en-CA" sz="3000" spc="-1" strike="noStrike" u="sng">
                <a:solidFill>
                  <a:srgbClr val="000000"/>
                </a:solidFill>
                <a:uFillTx/>
                <a:latin typeface="Calibri"/>
              </a:rPr>
              <a:t>undue</a:t>
            </a:r>
            <a:r>
              <a:rPr b="0" lang="en-CA" sz="3000" spc="-1" strike="noStrike">
                <a:solidFill>
                  <a:srgbClr val="000000"/>
                </a:solidFill>
                <a:latin typeface="Calibri"/>
              </a:rPr>
              <a:t> hardship. This means that accommodation must be provided unless there would be a very serious impact on the employer, landlord or service provider. It also implies that some amount of impact is to be expected in providing accommodation.</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is is a high standard. </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ly factors:</a:t>
            </a:r>
            <a:endParaRPr b="0" lang="en-US" sz="30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Cost (taking into account outside sources of funding)</a:t>
            </a:r>
            <a:endParaRPr b="0" lang="en-US" sz="26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Health and safety</a:t>
            </a:r>
            <a:endParaRPr b="0" lang="en-US" sz="2600" spc="-1" strike="noStrike">
              <a:solidFill>
                <a:srgbClr val="000000"/>
              </a:solidFill>
              <a:latin typeface="Calibri"/>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0657-BA98-4EED-9D06-735A1F7A1838}"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BD7E-17A5-4CAC-881F-C55C0F4340D4}"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Ontario’s human rights system</a:t>
            </a:r>
            <a:endParaRPr b="1" lang="en-US" sz="3900" spc="-1" strike="noStrike">
              <a:solidFill>
                <a:srgbClr val="330066"/>
              </a:solidFill>
              <a:latin typeface="Calibri"/>
            </a:endParaRPr>
          </a:p>
        </p:txBody>
      </p:sp>
      <p:grpSp>
        <p:nvGrpSpPr>
          <p:cNvPr id="211" name="SmartArt Placeholder 54278"/>
          <p:cNvGrpSpPr/>
          <p:nvPr/>
        </p:nvGrpSpPr>
        <p:grpSpPr>
          <a:xfrm>
            <a:off x="663480" y="1978200"/>
            <a:ext cx="7740000" cy="4102200"/>
            <a:chOff x="663480" y="1978200"/>
            <a:chExt cx="7740000" cy="4102200"/>
          </a:xfrm>
        </p:grpSpPr>
        <p:cxnSp>
          <p:nvCxnSpPr>
            <p:cNvPr id="212" name="_s1028"/>
            <p:cNvCxnSpPr>
              <a:stCxn id="213" idx="0"/>
              <a:endCxn id="214" idx="2"/>
            </p:cNvCxnSpPr>
            <p:nvPr/>
          </p:nvCxnSpPr>
          <p:spPr>
            <a:xfrm flipV="1" rot="16200000">
              <a:off x="5477040" y="2674080"/>
              <a:ext cx="821160" cy="2709720"/>
            </a:xfrm>
            <a:prstGeom prst="bentConnector3">
              <a:avLst>
                <a:gd name="adj1" fmla="val 13903"/>
              </a:avLst>
            </a:prstGeom>
            <a:ln w="28440">
              <a:solidFill>
                <a:srgbClr val="000000"/>
              </a:solidFill>
              <a:miter/>
            </a:ln>
          </p:spPr>
        </p:cxnSp>
        <p:cxnSp>
          <p:nvCxnSpPr>
            <p:cNvPr id="215" name="_s1029"/>
            <p:cNvCxnSpPr>
              <a:stCxn id="216" idx="0"/>
              <a:endCxn id="214" idx="2"/>
            </p:cNvCxnSpPr>
            <p:nvPr/>
          </p:nvCxnSpPr>
          <p:spPr>
            <a:xfrm flipV="1">
              <a:off x="4533480" y="3618360"/>
              <a:ext cx="3600" cy="821160"/>
            </a:xfrm>
            <a:prstGeom prst="bentConnector2">
              <a:avLst/>
            </a:prstGeom>
            <a:ln w="28440">
              <a:solidFill>
                <a:srgbClr val="000000"/>
              </a:solidFill>
              <a:miter/>
            </a:ln>
          </p:spPr>
        </p:cxnSp>
        <p:cxnSp>
          <p:nvCxnSpPr>
            <p:cNvPr id="217" name="_s1030"/>
            <p:cNvCxnSpPr>
              <a:stCxn id="218" idx="0"/>
              <a:endCxn id="214" idx="2"/>
            </p:cNvCxnSpPr>
            <p:nvPr/>
          </p:nvCxnSpPr>
          <p:spPr>
            <a:xfrm flipH="1" flipV="1" rot="5400000">
              <a:off x="2768400" y="2674080"/>
              <a:ext cx="821160" cy="2709720"/>
            </a:xfrm>
            <a:prstGeom prst="bentConnector3">
              <a:avLst>
                <a:gd name="adj1" fmla="val 13903"/>
              </a:avLst>
            </a:prstGeom>
            <a:ln w="28440">
              <a:solidFill>
                <a:srgbClr val="000000"/>
              </a:solidFill>
              <a:miter/>
            </a:ln>
          </p:spPr>
        </p:cxnSp>
        <p:sp>
          <p:nvSpPr>
            <p:cNvPr id="214" name="_s1031"/>
            <p:cNvSpPr/>
            <p:nvPr/>
          </p:nvSpPr>
          <p:spPr>
            <a:xfrm>
              <a:off x="3372480" y="197820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nt</a:t>
              </a:r>
              <a:endParaRPr b="0" lang="en-US" sz="2000" spc="-1" strike="noStrike">
                <a:solidFill>
                  <a:srgbClr val="000000"/>
                </a:solidFill>
                <a:latin typeface="Arial"/>
              </a:endParaRPr>
            </a:p>
          </p:txBody>
        </p:sp>
        <p:sp>
          <p:nvSpPr>
            <p:cNvPr id="218" name="_s1032"/>
            <p:cNvSpPr/>
            <p:nvPr/>
          </p:nvSpPr>
          <p:spPr>
            <a:xfrm>
              <a:off x="663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R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_s1033"/>
            <p:cNvSpPr/>
            <p:nvPr/>
          </p:nvSpPr>
          <p:spPr>
            <a:xfrm>
              <a:off x="3372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LSC</a:t>
              </a:r>
              <a:endParaRPr b="0" lang="en-US" sz="2000" spc="-1" strike="noStrike">
                <a:solidFill>
                  <a:srgbClr val="000000"/>
                </a:solidFill>
                <a:latin typeface="Arial"/>
              </a:endParaRPr>
            </a:p>
          </p:txBody>
        </p:sp>
        <p:sp>
          <p:nvSpPr>
            <p:cNvPr id="213" name="_s1034"/>
            <p:cNvSpPr/>
            <p:nvPr/>
          </p:nvSpPr>
          <p:spPr>
            <a:xfrm>
              <a:off x="6081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T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BB30-67AE-4AF0-911E-10EEE8A3AAE0}"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4990-ADB3-478D-989A-38343DA0A86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431280" y="44136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n-CA" sz="3500" spc="-1" strike="noStrike">
                <a:solidFill>
                  <a:srgbClr val="330066"/>
                </a:solidFill>
                <a:latin typeface="Calibri"/>
              </a:rPr>
              <a:t>The Human Rights Legal Support Centre (HRLSC)</a:t>
            </a:r>
            <a:br>
              <a:rPr sz="3500"/>
            </a:br>
            <a:endParaRPr b="1" lang="en-US" sz="3500" spc="-1" strike="noStrike">
              <a:solidFill>
                <a:srgbClr val="330066"/>
              </a:solidFill>
              <a:latin typeface="Calibri"/>
            </a:endParaRPr>
          </a:p>
        </p:txBody>
      </p:sp>
      <p:sp>
        <p:nvSpPr>
          <p:cNvPr id="223"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pened its doors on June 30, 2008</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Human Rights Legal Support Centre was created to provide legal help to people who were discriminated against and are filing a human rights application at the Tribunal</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only provides legal assistance to applicants</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income testing</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provides services to people across Ontario.</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fees for services.</a:t>
            </a: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92AB-8C92-4CC2-8E7D-F39F0753A839}"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E935-DD60-47AE-B315-75E466F98E79}"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Tribunal of Ontario</a:t>
            </a:r>
            <a:endParaRPr b="1" lang="en-US" sz="3900" spc="-1" strike="noStrike">
              <a:solidFill>
                <a:srgbClr val="330066"/>
              </a:solidFill>
              <a:latin typeface="Calibri"/>
            </a:endParaRPr>
          </a:p>
        </p:txBody>
      </p:sp>
      <p:sp>
        <p:nvSpPr>
          <p:cNvPr id="228" name="PlaceHolder 2"/>
          <p:cNvSpPr>
            <a:spLocks noGrp="1"/>
          </p:cNvSpPr>
          <p:nvPr>
            <p:ph/>
          </p:nvPr>
        </p:nvSpPr>
        <p:spPr>
          <a:xfrm>
            <a:off x="324000" y="1341000"/>
            <a:ext cx="8496000" cy="5040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Human Rights Tribunal of Ontario deals with all claims of discrimination filed under the Ontario </a:t>
            </a:r>
            <a:r>
              <a:rPr b="0" i="1" lang="en-CA" sz="2400" spc="-1" strike="noStrike">
                <a:solidFill>
                  <a:srgbClr val="000000"/>
                </a:solidFill>
                <a:latin typeface="Calibri"/>
              </a:rPr>
              <a:t>Human Rights Code</a:t>
            </a:r>
            <a:r>
              <a:rPr b="0" lang="en-CA" sz="2400" spc="-1" strike="noStrike">
                <a:solidFill>
                  <a:srgbClr val="000000"/>
                </a:solidFill>
                <a:latin typeface="Calibri"/>
              </a:rPr>
              <a:t>. The Tribunal resolves applications through mediation or adjudication. Contact the Tribunal for procedural questions – they cannot give legal advice. The Tribunal can help you with:</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pplication form to make a claim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uide to completing an Application form about your experience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the process for bringing an Application about discriminatory treatment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an Application that you have made to the Tribunal about discrimin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E7FF-AB0E-4A55-BF65-922427B7B87C}"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FA31-A62E-492C-A14A-28CF918661D2}"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The Ontario Human Rights </a:t>
            </a:r>
            <a:r>
              <a:rPr b="1" lang="en-CA" sz="3600" spc="-1" strike="noStrike">
                <a:solidFill>
                  <a:srgbClr val="330066"/>
                </a:solidFill>
                <a:latin typeface="Calibri"/>
              </a:rPr>
              <a:t>Commission</a:t>
            </a:r>
            <a:r>
              <a:rPr b="1" lang="en-CA" sz="3500" spc="-1" strike="noStrike">
                <a:solidFill>
                  <a:srgbClr val="330066"/>
                </a:solidFill>
                <a:latin typeface="Calibri"/>
              </a:rPr>
              <a:t> </a:t>
            </a:r>
            <a:endParaRPr b="1" lang="en-US" sz="3500" spc="-1" strike="noStrike">
              <a:solidFill>
                <a:srgbClr val="330066"/>
              </a:solidFill>
              <a:latin typeface="Calibri"/>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Public education, awareness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earch and make recommendations to prevent and eliminate discriminatory practices (including reviews of legislation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itiate inquiries into discriminatory practices in communities, workplaces and make recommendations to prevent such practices</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923D-740A-421D-8E6E-D83383E3C068}"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35B6-522A-42FB-9CD3-C8716E6E2D2E}"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56840" y="122040"/>
            <a:ext cx="7210440" cy="75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0066"/>
                </a:solidFill>
                <a:latin typeface="Calibri"/>
              </a:rPr>
              <a:t>The Centre and how we do our work</a:t>
            </a:r>
            <a:br>
              <a:rPr sz="2400"/>
            </a:br>
            <a:r>
              <a:rPr b="1" lang="en-CA" sz="2400" spc="-1" strike="noStrike">
                <a:solidFill>
                  <a:srgbClr val="330066"/>
                </a:solidFill>
                <a:latin typeface="Calibri"/>
              </a:rPr>
              <a:t>HRSLC provides services at every stage</a:t>
            </a:r>
            <a:endParaRPr b="1" lang="en-US" sz="2400" spc="-1" strike="noStrike">
              <a:solidFill>
                <a:srgbClr val="330066"/>
              </a:solidFill>
              <a:latin typeface="Calibri"/>
            </a:endParaRPr>
          </a:p>
        </p:txBody>
      </p:sp>
      <p:sp>
        <p:nvSpPr>
          <p:cNvPr id="238" name="PlaceHolder 2"/>
          <p:cNvSpPr>
            <a:spLocks noGrp="1"/>
          </p:cNvSpPr>
          <p:nvPr>
            <p:ph/>
          </p:nvPr>
        </p:nvSpPr>
        <p:spPr>
          <a:xfrm>
            <a:off x="358920" y="872640"/>
            <a:ext cx="8353440" cy="5077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arly intervention</a:t>
            </a:r>
            <a:r>
              <a:rPr b="0" lang="en-CA" sz="1600" spc="-1" strike="noStrike">
                <a:solidFill>
                  <a:srgbClr val="000000"/>
                </a:solidFill>
                <a:latin typeface="Calibri"/>
              </a:rPr>
              <a:t> - Where resolution is possible - phone call to potential respondent or demand letter</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Before an application is filed</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 determination of issue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ferral where not human rights issue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reparing and filing application</a:t>
            </a:r>
            <a:endParaRPr b="0" lang="en-US" sz="1600" spc="-1" strike="noStrike">
              <a:solidFill>
                <a:srgbClr val="000000"/>
              </a:solidFill>
              <a:latin typeface="Calibri"/>
            </a:endParaRPr>
          </a:p>
          <a:p>
            <a:pPr lvl="1" marL="685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a:t>
            </a:r>
            <a:r>
              <a:rPr b="1" lang="en-CA" sz="1600" spc="-1" strike="noStrike">
                <a:solidFill>
                  <a:srgbClr val="000000"/>
                </a:solidFill>
                <a:latin typeface="Calibri"/>
              </a:rPr>
              <a:t> </a:t>
            </a:r>
            <a:r>
              <a:rPr b="0" lang="en-CA" sz="1600" spc="-1" strike="noStrike">
                <a:solidFill>
                  <a:srgbClr val="000000"/>
                </a:solidFill>
                <a:latin typeface="Calibri"/>
              </a:rPr>
              <a:t>Assistance in drafting and filing application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On record to prepare and file applic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fter the application is filed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in preparing for mediation or hearing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tained to prepare for mediation and hearing</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t mediation at the Tribunal</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at medi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ost-mediation</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in settlement negotiation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Preparation for hearing as counsel of record</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1" lang="en-CA" sz="1600" spc="-1" strike="noStrike">
                <a:solidFill>
                  <a:srgbClr val="000000"/>
                </a:solidFill>
                <a:latin typeface="Calibri"/>
              </a:rPr>
              <a:t>Representation at hearing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nforcement – for clients and for self-representing applica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76F0-5DC8-45BE-9F8B-EE513DA82EF4}"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7008-2605-4A22-B689-253987AB92CA}"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Service provided in over 140 languages</a:t>
            </a:r>
            <a:endParaRPr b="1" lang="en-US" sz="3500" spc="-1" strike="noStrike">
              <a:solidFill>
                <a:srgbClr val="330066"/>
              </a:solidFill>
              <a:latin typeface="Calibri"/>
            </a:endParaRPr>
          </a:p>
        </p:txBody>
      </p:sp>
      <p:sp>
        <p:nvSpPr>
          <p:cNvPr id="2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e have in-house language abilities in fifteen languages, and the assistance of community-based interpreter services across the province.  We also have a contract with a service provider that would give us immediate access to telephone interpreting services in over 140 languages .  We also use three way videoconferencing for ASL interpret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C652-5984-4902-A987-AAF2DBA8CFD1}"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4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D165-1EB3-4E20-9FE3-F232D1CA9AA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1116000" y="3679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cess of Human Rights Application</a:t>
            </a:r>
            <a:endParaRPr b="1" lang="en-US" sz="3500" spc="-1" strike="noStrike">
              <a:solidFill>
                <a:srgbClr val="330066"/>
              </a:solidFill>
              <a:latin typeface="Calibri"/>
            </a:endParaRPr>
          </a:p>
        </p:txBody>
      </p:sp>
      <p:sp>
        <p:nvSpPr>
          <p:cNvPr id="248" name="Text Box 33"/>
          <p:cNvSpPr/>
          <p:nvPr/>
        </p:nvSpPr>
        <p:spPr>
          <a:xfrm>
            <a:off x="3708360" y="1736640"/>
            <a:ext cx="17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Application</a:t>
            </a:r>
            <a:endParaRPr b="0" lang="en-US" sz="2000" spc="-1" strike="noStrike">
              <a:solidFill>
                <a:srgbClr val="000000"/>
              </a:solidFill>
              <a:latin typeface="Arial"/>
            </a:endParaRPr>
          </a:p>
        </p:txBody>
      </p:sp>
      <p:sp>
        <p:nvSpPr>
          <p:cNvPr id="249" name="Line 35"/>
          <p:cNvSpPr/>
          <p:nvPr/>
        </p:nvSpPr>
        <p:spPr>
          <a:xfrm>
            <a:off x="4464000" y="234936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36"/>
          <p:cNvSpPr/>
          <p:nvPr/>
        </p:nvSpPr>
        <p:spPr>
          <a:xfrm>
            <a:off x="3810600" y="26478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sponse</a:t>
            </a:r>
            <a:endParaRPr b="0" lang="en-US" sz="2000" spc="-1" strike="noStrike">
              <a:solidFill>
                <a:srgbClr val="000000"/>
              </a:solidFill>
              <a:latin typeface="Arial"/>
            </a:endParaRPr>
          </a:p>
        </p:txBody>
      </p:sp>
      <p:sp>
        <p:nvSpPr>
          <p:cNvPr id="251" name="Text Box 39"/>
          <p:cNvSpPr/>
          <p:nvPr/>
        </p:nvSpPr>
        <p:spPr>
          <a:xfrm>
            <a:off x="4211640" y="2997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0"/>
          <p:cNvSpPr/>
          <p:nvPr/>
        </p:nvSpPr>
        <p:spPr>
          <a:xfrm>
            <a:off x="4500720" y="321300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41"/>
          <p:cNvSpPr/>
          <p:nvPr/>
        </p:nvSpPr>
        <p:spPr>
          <a:xfrm>
            <a:off x="4131720" y="3475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ply</a:t>
            </a:r>
            <a:endParaRPr b="0" lang="en-US" sz="2000" spc="-1" strike="noStrike">
              <a:solidFill>
                <a:srgbClr val="000000"/>
              </a:solidFill>
              <a:latin typeface="Arial"/>
            </a:endParaRPr>
          </a:p>
        </p:txBody>
      </p:sp>
      <p:sp>
        <p:nvSpPr>
          <p:cNvPr id="254" name="Line 42"/>
          <p:cNvSpPr/>
          <p:nvPr/>
        </p:nvSpPr>
        <p:spPr>
          <a:xfrm>
            <a:off x="4535640" y="404172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43"/>
          <p:cNvSpPr/>
          <p:nvPr/>
        </p:nvSpPr>
        <p:spPr>
          <a:xfrm>
            <a:off x="3900960" y="4375080"/>
            <a:ext cx="138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Mediation</a:t>
            </a:r>
            <a:endParaRPr b="0" lang="en-US" sz="2000" spc="-1" strike="noStrike">
              <a:solidFill>
                <a:srgbClr val="000000"/>
              </a:solidFill>
              <a:latin typeface="Arial"/>
            </a:endParaRPr>
          </a:p>
        </p:txBody>
      </p:sp>
      <p:sp>
        <p:nvSpPr>
          <p:cNvPr id="256" name="Line 44"/>
          <p:cNvSpPr/>
          <p:nvPr/>
        </p:nvSpPr>
        <p:spPr>
          <a:xfrm>
            <a:off x="4535640" y="501336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45"/>
          <p:cNvSpPr/>
          <p:nvPr/>
        </p:nvSpPr>
        <p:spPr>
          <a:xfrm>
            <a:off x="3941280" y="5348160"/>
            <a:ext cx="114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Hearing</a:t>
            </a:r>
            <a:endParaRPr b="0" lang="en-US" sz="2000" spc="-1" strike="noStrike">
              <a:solidFill>
                <a:srgbClr val="000000"/>
              </a:solidFill>
              <a:latin typeface="Arial"/>
            </a:endParaRPr>
          </a:p>
        </p:txBody>
      </p:sp>
      <p:sp>
        <p:nvSpPr>
          <p:cNvPr id="258" name="AutoShape 46"/>
          <p:cNvSpPr/>
          <p:nvPr/>
        </p:nvSpPr>
        <p:spPr>
          <a:xfrm>
            <a:off x="3635280" y="1736640"/>
            <a:ext cx="1621080" cy="540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47"/>
          <p:cNvSpPr/>
          <p:nvPr/>
        </p:nvSpPr>
        <p:spPr>
          <a:xfrm>
            <a:off x="3635280" y="2600280"/>
            <a:ext cx="16574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49"/>
          <p:cNvSpPr/>
          <p:nvPr/>
        </p:nvSpPr>
        <p:spPr>
          <a:xfrm>
            <a:off x="3672000" y="3429000"/>
            <a:ext cx="162072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50"/>
          <p:cNvSpPr/>
          <p:nvPr/>
        </p:nvSpPr>
        <p:spPr>
          <a:xfrm>
            <a:off x="3708360" y="4329000"/>
            <a:ext cx="1655640" cy="538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51"/>
          <p:cNvSpPr/>
          <p:nvPr/>
        </p:nvSpPr>
        <p:spPr>
          <a:xfrm>
            <a:off x="3672000" y="5265720"/>
            <a:ext cx="16556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94A6-D767-4BF3-B63F-59A48832E7A2}"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A60E-82D3-4B12-AAE8-CAFD4C18D292}"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Settlement directly between parties</a:t>
            </a:r>
            <a:endParaRPr b="1" lang="en-US" sz="3900" spc="-1" strike="noStrike">
              <a:solidFill>
                <a:srgbClr val="330066"/>
              </a:solidFill>
              <a:latin typeface="Calibri"/>
            </a:endParaRPr>
          </a:p>
        </p:txBody>
      </p:sp>
      <p:sp>
        <p:nvSpPr>
          <p:cNvPr id="2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rPr>
              <a:t>Human rights applicant will share her story as part of corporate training</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 woman with a muscular condition was interviewed for a job with a mid-sized non-profit organization.  When she followed up to find out about the position she was told that they had decided not to hire her because of her disability.</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The Centre negotiated a settlement that included general damages and human rights training for all management within six months.  The woman was able to participate directly in the training to talk about the impact that the discrimination had on her individual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pplicant had bipolar disorder and provided full disclosure of diagnosis to his new employer.  He also requested accommodation.  Within eight days he was dismissed from his position.  </a:t>
            </a:r>
            <a:endParaRPr b="0" lang="en-US" sz="3000" spc="-1" strike="noStrike">
              <a:solidFill>
                <a:srgbClr val="000000"/>
              </a:solidFill>
              <a:latin typeface="Calibri"/>
            </a:endParaRPr>
          </a:p>
        </p:txBody>
      </p:sp>
      <p:sp>
        <p:nvSpPr>
          <p:cNvPr id="26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A51D-C3B7-421A-A692-39E4B600CE5D}"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AD95-8D90-4F9A-BE23-0240BEB8CA7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Lane – award</a:t>
            </a:r>
            <a:br>
              <a:rPr sz="3900"/>
            </a:br>
            <a:r>
              <a:rPr b="1" lang="en-CA" sz="3900" spc="-1" strike="noStrike">
                <a:solidFill>
                  <a:srgbClr val="330066"/>
                </a:solidFill>
                <a:latin typeface="Calibri"/>
              </a:rPr>
              <a:t>$80,000 approx.</a:t>
            </a:r>
            <a:endParaRPr b="1" lang="en-US" sz="39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4993-4C8F-4D76-AA9E-296D38184F10}"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B8FE-83B2-4F61-A37F-DAFF79EDFF2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basics</a:t>
            </a:r>
            <a:endParaRPr b="1" lang="en-US" sz="3900" spc="-1" strike="noStrike">
              <a:solidFill>
                <a:srgbClr val="330066"/>
              </a:solidFill>
              <a:latin typeface="Calibri"/>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tario’s </a:t>
            </a:r>
            <a:r>
              <a:rPr b="0" i="1" lang="en-CA" sz="3000" spc="-1" strike="noStrike">
                <a:solidFill>
                  <a:srgbClr val="000000"/>
                </a:solidFill>
                <a:latin typeface="Calibri"/>
              </a:rPr>
              <a:t>Human Rights Code</a:t>
            </a:r>
            <a:r>
              <a:rPr b="0" lang="en-CA" sz="3000" spc="-1" strike="noStrike">
                <a:solidFill>
                  <a:srgbClr val="000000"/>
                </a:solidFill>
                <a:latin typeface="Calibri"/>
              </a:rPr>
              <a:t> has supremacy over other laws and protects people from discrimination in employment, services and 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law is enforced by the Human Rights Tribunal of Ontario – they can award money for pain and suffering and lost wages (“damages”) and order changes to the way people practice busin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a:t>
            </a:r>
            <a:r>
              <a:rPr b="1" i="1" lang="en-CA" sz="3900" spc="-1" strike="noStrike">
                <a:solidFill>
                  <a:srgbClr val="330066"/>
                </a:solidFill>
                <a:latin typeface="Calibri"/>
              </a:rPr>
              <a:t>Torrejon- Awarded $22,600 approx.</a:t>
            </a:r>
            <a:endParaRPr b="1" lang="en-US" sz="3900" spc="-1" strike="noStrike">
              <a:solidFill>
                <a:srgbClr val="330066"/>
              </a:solidFill>
              <a:latin typeface="Calibri"/>
            </a:endParaRPr>
          </a:p>
        </p:txBody>
      </p:sp>
      <p:sp>
        <p:nvSpPr>
          <p:cNvPr id="27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 worked as a leasing agent.  She was diagnosed with breast cancer and informed her employer that she would be having surgery and would be working until then.  She subsequently changed her mind and opted for a different treatment.  When she informed her employer that she no longer needed a leave of absence,  she was told that she had already resigned and was not allowed to return to work</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B95E-48A7-4636-9456-7A06622BA4C1}"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2E7A-BA6C-4C7E-9A28-CE6E6805E038}"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9D5D-1C80-4777-831C-AAAA63CBC418}"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2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A89D-271E-4B28-A346-A85F553E222B}"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RLSC Contact Information</a:t>
            </a:r>
            <a:endParaRPr b="1" lang="en-US" sz="3900" spc="-1" strike="noStrike">
              <a:solidFill>
                <a:srgbClr val="330066"/>
              </a:solidFill>
              <a:latin typeface="Calibri"/>
            </a:endParaRPr>
          </a:p>
        </p:txBody>
      </p:sp>
      <p:sp>
        <p:nvSpPr>
          <p:cNvPr id="28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uman Rights Legal Support Centre</a:t>
            </a:r>
            <a:br>
              <a:rPr sz="3000"/>
            </a:br>
            <a:r>
              <a:rPr b="0" lang="en-CA" sz="3000" spc="-1" strike="noStrike">
                <a:solidFill>
                  <a:srgbClr val="000000"/>
                </a:solidFill>
                <a:latin typeface="Calibri"/>
              </a:rPr>
              <a:t>Tel: (416) 597-4900</a:t>
            </a:r>
            <a:br>
              <a:rPr sz="3000"/>
            </a:br>
            <a:r>
              <a:rPr b="0" lang="en-CA" sz="3000" spc="-1" strike="noStrike">
                <a:solidFill>
                  <a:srgbClr val="000000"/>
                </a:solidFill>
                <a:latin typeface="Calibri"/>
              </a:rPr>
              <a:t>Toll Free: 1-866—625-5179</a:t>
            </a:r>
            <a:br>
              <a:rPr sz="3000"/>
            </a:br>
            <a:r>
              <a:rPr b="0" lang="en-CA" sz="3000" spc="-1" strike="noStrike">
                <a:solidFill>
                  <a:srgbClr val="000000"/>
                </a:solidFill>
                <a:latin typeface="Calibri"/>
              </a:rPr>
              <a:t>TTY: (416) 416-597-4903</a:t>
            </a:r>
            <a:br>
              <a:rPr sz="3000"/>
            </a:br>
            <a:r>
              <a:rPr b="0" lang="en-CA" sz="3000" spc="-1" strike="noStrike">
                <a:solidFill>
                  <a:srgbClr val="000000"/>
                </a:solidFill>
                <a:latin typeface="Calibri"/>
              </a:rPr>
              <a:t>TTY Toll Free: 1-866 612-8627</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www.hrlsc.on.ca</a:t>
            </a:r>
            <a:endParaRPr b="0" lang="en-US" sz="44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06D4-2B36-4038-AF1C-ACFE955F25A5}"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3F59-9F9A-438F-8475-BB3AF7A9473C}"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900" spc="-1" strike="noStrike">
                <a:solidFill>
                  <a:srgbClr val="330066"/>
                </a:solidFill>
                <a:latin typeface="Calibri"/>
              </a:rPr>
              <a:t>Where does the Code apply?</a:t>
            </a:r>
            <a:endParaRPr b="1" lang="en-US" sz="3900" spc="-1" strike="noStrike">
              <a:solidFill>
                <a:srgbClr val="330066"/>
              </a:solidFill>
              <a:latin typeface="Calibri"/>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Employment</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Services, goods and facilitie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Contract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Membership - Associations (e.g. unions, professional association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C1A6-56F5-4360-AF80-5C4B4EC9B195}"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7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45EB-1059-41A7-93FB-8F5CA5ED96A3}"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hibited Grounds of Discrimination </a:t>
            </a:r>
            <a:endParaRPr b="1" lang="en-US" sz="3500" spc="-1" strike="noStrike">
              <a:solidFill>
                <a:srgbClr val="330066"/>
              </a:solidFill>
              <a:latin typeface="Calibri"/>
            </a:endParaRPr>
          </a:p>
        </p:txBody>
      </p:sp>
      <p:sp>
        <p:nvSpPr>
          <p:cNvPr id="175" name="PlaceHolder 2"/>
          <p:cNvSpPr>
            <a:spLocks noGrp="1"/>
          </p:cNvSpPr>
          <p:nvPr>
            <p:ph/>
          </p:nvPr>
        </p:nvSpPr>
        <p:spPr>
          <a:xfrm>
            <a:off x="456840" y="1719360"/>
            <a:ext cx="40338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e, colour</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cestr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ce of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izenship</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nic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ed (religio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pt of social assistance (housing onl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Gender identity and expression</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858920" y="1628640"/>
            <a:ext cx="3809880" cy="453096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ual orientation</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ital status </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y status</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of offenses (employment only, must have been pardoned)</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ability</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 (includes being pregnant, sexual harassment and gender identify)</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31A4-7FE9-462C-B1C4-46760FF97CF4}"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D013-9C62-4048-9F5B-3F79C193BB4E}"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Examples</a:t>
            </a:r>
            <a:endParaRPr b="1" lang="en-US" sz="3900" spc="-1" strike="noStrike">
              <a:solidFill>
                <a:srgbClr val="330066"/>
              </a:solidFill>
              <a:latin typeface="Calibri"/>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ployment (83% of cases fall here)</a:t>
            </a:r>
            <a:endParaRPr b="0" lang="en-US" sz="22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You’ve taken so many sick days, we`re going to let you go.”</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Your depression is affecting your work.  You’re fired.”</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want you back after your medical leave if you are able to work at one hundred perc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provide accommodation if your disability was caused by a workplace accid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f you cannot do the same volume of work as everybody else, you cannot work here”.  We have to treat everyone the same”</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Getting the computer application you require is too expensive.  You can get it yourself, if you need it”</a:t>
            </a:r>
            <a:endParaRPr b="0" lang="en-US" sz="2000" spc="-1" strike="noStrike">
              <a:solidFill>
                <a:srgbClr val="000000"/>
              </a:solidFill>
              <a:latin typeface="Calibri"/>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FD68-3117-48C5-9C26-4FB804A08199}"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8172-BC06-4DF1-9078-2E8255FCC936}"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Discrimination?</a:t>
            </a:r>
            <a:endParaRPr b="1" lang="en-US" sz="3900" spc="-1" strike="noStrike">
              <a:solidFill>
                <a:srgbClr val="330066"/>
              </a:solidFill>
              <a:latin typeface="Calibri"/>
            </a:endParaRPr>
          </a:p>
        </p:txBody>
      </p:sp>
      <p:sp>
        <p:nvSpPr>
          <p:cNvPr id="18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fferential treatment, deny a benefit, exclude, impose obligations, disadvantage, etc. because of a characteristic or perceived characteristic</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tent is not necessary</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scriminatory factor may be one of many factor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24A9-DD1C-488B-AA75-36A600FD993B}"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4C2E-4827-4077-9BDF-4AD0D82DB353}"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equality?</a:t>
            </a:r>
            <a:endParaRPr b="1" lang="en-US" sz="3900" spc="-1" strike="noStrike">
              <a:solidFill>
                <a:srgbClr val="330066"/>
              </a:solidFill>
              <a:latin typeface="Calibri"/>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It does NOT mean to treat everyone the same</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ame treatment ≠ equality</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000000"/>
                </a:solidFill>
                <a:uFillTx/>
                <a:latin typeface="Calibri"/>
              </a:rPr>
              <a:t>Substantive</a:t>
            </a:r>
            <a:r>
              <a:rPr b="0" lang="en-CA" sz="3000" spc="-1" strike="noStrike">
                <a:solidFill>
                  <a:srgbClr val="000000"/>
                </a:solidFill>
                <a:latin typeface="Calibri"/>
              </a:rPr>
              <a:t> Equality</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Focuses on the </a:t>
            </a:r>
            <a:r>
              <a:rPr b="0" lang="en-CA" sz="2600" spc="-1" strike="noStrike" u="sng">
                <a:solidFill>
                  <a:srgbClr val="000000"/>
                </a:solidFill>
                <a:uFillTx/>
                <a:latin typeface="Calibri"/>
              </a:rPr>
              <a:t>effects</a:t>
            </a:r>
            <a:r>
              <a:rPr b="0" lang="en-CA" sz="2600" spc="-1" strike="noStrike">
                <a:solidFill>
                  <a:srgbClr val="000000"/>
                </a:solidFill>
                <a:latin typeface="Calibri"/>
              </a:rPr>
              <a:t> of rules, policies, practices</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e.g. a workplace “rule” applied to everyone may appear neutral but may have a different and discriminatory impact on someone who is protected under the </a:t>
            </a:r>
            <a:r>
              <a:rPr b="0" i="1" lang="en-CA" sz="2600" spc="-1" strike="noStrike">
                <a:solidFill>
                  <a:srgbClr val="000000"/>
                </a:solidFill>
                <a:latin typeface="Calibri"/>
              </a:rPr>
              <a:t>Code</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9E95-00DD-47B7-A248-87F7851044AD}"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B282-1139-465A-ABA9-D1F203671CD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he Duty to Accommodate</a:t>
            </a:r>
            <a:endParaRPr b="1" lang="en-US" sz="3900" spc="-1" strike="noStrike">
              <a:solidFill>
                <a:srgbClr val="330066"/>
              </a:solidFill>
              <a:latin typeface="Calibri"/>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hat is the Duty to Accommodate? </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tructures, rules, policies may have to be changed to ensure persons protected by a prohibited ground of discrimination are to fully enjoy equality with respect to housing, employment, services, etc.</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ccommodation must be made short of undue hardship</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3B6C-2224-4B17-89AE-7DE49AE57C77}" type="datetime">
              <a:rPr b="0" lang="en-CA" sz="1000" spc="-1" strike="noStrike">
                <a:solidFill>
                  <a:srgbClr val="000000"/>
                </a:solidFill>
                <a:latin typeface="Arial"/>
              </a:rPr>
              <a:t>26-07-29</a:t>
            </a:fld>
            <a:endParaRPr b="0" lang="en-US" sz="1000" spc="-1" strike="noStrike">
              <a:solidFill>
                <a:srgbClr val="000000"/>
              </a:solidFill>
              <a:latin typeface="Arial"/>
            </a:endParaRPr>
          </a:p>
        </p:txBody>
      </p:sp>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F5E0-3D52-4378-A5F2-F382632B703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Principles of Accommodation</a:t>
            </a:r>
            <a:endParaRPr b="1" lang="en-US" sz="3900" spc="-1" strike="noStrike">
              <a:solidFill>
                <a:srgbClr val="330066"/>
              </a:solidFill>
              <a:latin typeface="Calibri"/>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Dignity</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dividualized accommodation</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tegration and full participation</a:t>
            </a:r>
            <a:endParaRPr b="0" lang="en-US" sz="3800" spc="-1" strike="noStrike">
              <a:solidFill>
                <a:srgbClr val="000000"/>
              </a:solidFill>
              <a:latin typeface="Calibri"/>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ifer Ramsay</dc:creator>
  <dc:description/>
  <dc:language>en-US</dc:language>
  <cp:lastModifiedBy>Consuelo Rubio</cp:lastModifiedBy>
  <cp:lastPrinted>2014-11-10T20:32:02Z</cp:lastPrinted>
  <dcterms:modified xsi:type="dcterms:W3CDTF">2014-11-10T21:33:02Z</dcterms:modified>
  <cp:revision>1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